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0893B-F3C0-4E95-9540-2F09111F1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C73F5-380A-4D46-9128-1881664DA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4DBED-3F6B-4789-9404-FC6FDE653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29512-6060-4377-BCD8-FBFA18548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E0C55-1280-41BF-BC7A-E53414C4B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EDFB2-DDA4-4947-B60A-A3E0D856C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0F54B-EC71-4F5C-B4CE-4F87AA1E6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6B69F-6428-4BCA-B5E1-6B1238F0B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65BC3-B316-4750-9AA0-5AE712E04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9503B-9B21-43BD-AB9B-4232751B9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44AC4-FDF1-4F79-BA39-4A75D1568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CBA7D-AF75-488D-9226-ADDD6BBE8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F50E-3D15-4FDF-8323-F67ADB2636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1">
            <a:lum contrast="30000"/>
          </a:blip>
          <a:stretch/>
        </p:blipFill>
        <p:spPr>
          <a:xfrm>
            <a:off x="5664240" y="4114800"/>
            <a:ext cx="2666880" cy="893880"/>
          </a:xfrm>
          <a:prstGeom prst="rect">
            <a:avLst/>
          </a:prstGeom>
          <a:ln w="0">
            <a:noFill/>
          </a:ln>
        </p:spPr>
      </p:pic>
      <p:sp>
        <p:nvSpPr>
          <p:cNvPr id="47"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avid Cunningham,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9"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David Cunningham, at (800) 848-4079.</a:t>
            </a:r>
            <a:endParaRPr b="0" lang="en-US" sz="900" spc="-1" strike="noStrike">
              <a:solidFill>
                <a:srgbClr val="000000"/>
              </a:solidFill>
              <a:latin typeface="Times New Roman"/>
            </a:endParaRPr>
          </a:p>
        </p:txBody>
      </p:sp>
      <p:sp>
        <p:nvSpPr>
          <p:cNvPr id="50"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709040" y="5105520"/>
            <a:ext cx="1143000" cy="453960"/>
          </a:xfrm>
          <a:prstGeom prst="rect">
            <a:avLst/>
          </a:prstGeom>
          <a:ln w="0">
            <a:noFill/>
          </a:ln>
        </p:spPr>
      </p:pic>
      <p:pic>
        <p:nvPicPr>
          <p:cNvPr id="53" name="" descr=""/>
          <p:cNvPicPr/>
          <p:nvPr/>
        </p:nvPicPr>
        <p:blipFill>
          <a:blip r:embed="rId3"/>
          <a:stretch/>
        </p:blipFill>
        <p:spPr>
          <a:xfrm>
            <a:off x="0" y="-20520"/>
            <a:ext cx="153684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thomley</cp:lastModifiedBy>
  <dcterms:modified xsi:type="dcterms:W3CDTF">2005-10-12T21:06:01Z</dcterms:modified>
  <cp:revision>51</cp:revision>
  <dc:subject/>
  <dc:title>PowerPoint Presentation</dc:title>
</cp:coreProperties>
</file>